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59E-BDA8-42A3-B001-56B80CCC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711-0C51-4037-95EF-09B057A1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DD5-1F97-4749-B7FF-C0D3AD95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D87-C03C-42BC-8B6B-5BDCF9BB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5BE1-7F5C-42E1-9946-EF447A79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058D-9060-47EB-AC18-86C3DFD4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0C5D-071F-4A75-B54D-25EF2DDC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B51E-217B-4521-9BCC-642A81FC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D0F0-BA81-41CE-991E-E1BD48D5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DBCF-2CD1-41A0-83F7-D0E41F9A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1E85-4B47-4D96-B1CC-F6948F3C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3FC-8B90-49AA-B8DA-E41E5255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2FF3-754A-4481-8BF8-8E13A41A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17EF-05DC-4541-9848-6360F130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D71E-0020-47CA-8753-7222586E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3121-0624-42EF-81E9-DA8AEA38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D1B7-B0AF-4C1F-98E6-4A2967F8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13B4-E3FB-48B0-9537-5789FE73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704-D3BE-436F-8636-4B9B5D4E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3E7-9D21-4548-8BBD-E6D79BB0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FBB-CF71-4DBB-AB18-0CBA9318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253-C2EF-4CC9-BCDD-7576DB4D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EB4-8A9D-4CEC-9939-B43EAAFE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1B2-187F-42D2-A27F-4E9D5A01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6C75-DDF7-47BE-B2C8-4C0C00A14C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3166-D4E1-42DD-9D71-889EABFE74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ports Promo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motional Adverti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dvertising with a goal of selling the item being promo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stitutional advertis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ertising with a goal of developing goodwill or a positive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Med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spa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az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door advert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on p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dium sign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les promo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short term incentive to get consumers interested in buying a produ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s promotions are usually part of an advertisement or personal sales pi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pons, rebates, samples, premiums, contests, and sweepstak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 Rel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activities that promote the image and communications a company has with its employees, customers, investors, and the public at lar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free mention of a product or company in the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nefit of free publicity is how the public may view what they see and hear in the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advantage is a company’s lack of control over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ess Rele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newsworthy article that provides basic information to answer questions about a subject, usch as who, what, where, when, and w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– a baseball player is traded, a press release is sent to the media from the baseball franch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rsonal S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direct communication by a salesperson to a potential costumer either in person or by teleph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efore Selling Proces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pecting – involves looking for potential customers or l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approach – learning aout the products and the potential custom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Selling Proc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1ace9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the 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come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the s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suggestion s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ent Mark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ll activities associated with the sale, distribution, and promotion of a sports e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http://hometownstation.com/node/images/stories/2012/olympics.gif"/>
          <p:cNvPicPr/>
          <p:nvPr/>
        </p:nvPicPr>
        <p:blipFill>
          <a:blip r:embed="rId1"/>
          <a:stretch/>
        </p:blipFill>
        <p:spPr>
          <a:xfrm>
            <a:off x="609480" y="4267080"/>
            <a:ext cx="3681360" cy="1876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tailgate365.com/wp-content/uploads/2012/08/sb-2013.jpg"/>
          <p:cNvPicPr/>
          <p:nvPr/>
        </p:nvPicPr>
        <p:blipFill>
          <a:blip r:embed="rId2"/>
          <a:stretch/>
        </p:blipFill>
        <p:spPr>
          <a:xfrm>
            <a:off x="5334120" y="358128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motion in Sports Mark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sales, attract a target audience, and help create a positive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ns should be viewed as a company’s clien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motional Mi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y combination of advertising, sales promotion, publicity, and personal s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any must decide on its own promotional m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motional Budg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motional budget can be a determining factor in deciding the promotional m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hree ways to determine a promotional budget: Percentage of sales, Competitive parity, Objective-and-task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centage of S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rts organizations may use a set percentage, or portion, or last year’s sales or the coming year’s to decide on the funds for the promotional bud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etitive Par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any looks for industry trends on how much to sp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ity means having equality or simila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jective-and-Task Metho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nies set objectives for their promotion and decide what promotional activities are necessary to reach those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erti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y paid promotion of an idea, good, or service by an identified spon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8:17:13Z</dcterms:created>
  <dc:creator>008736</dc:creator>
  <dc:description/>
  <dc:language>en-US</dc:language>
  <cp:lastModifiedBy>008736</cp:lastModifiedBy>
  <dcterms:modified xsi:type="dcterms:W3CDTF">2012-11-07T14:00:38Z</dcterms:modified>
  <cp:revision>12</cp:revision>
  <dc:subject/>
  <dc:title>Sports Promotion</dc:title>
</cp:coreProperties>
</file>